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F66-9E92-45CB-8116-20817AE9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836-9BED-4768-998F-F868C5C0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5CD-C320-425D-87EB-63DBD152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DE5-2969-4D51-9456-D8357556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9E19-B32C-447D-BB8A-80093EC6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914F-3F48-4A3C-9A3E-CC56E30E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290-84BE-4779-9668-F4A1F836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8706-3CD2-412E-8BE2-73B56F9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EBCB-BADA-4F9A-9969-5C641002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AD8B-AA91-4F5C-8357-DCE457C6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3F76-9513-46CF-95C1-09820BE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52E-0180-4A24-B7B1-0A9C17DE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AB75-9FD6-420D-B9CB-BA30DFC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81B1-B7C7-41C2-88CF-F2CAFC73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DF96-EB49-4070-B1F3-3BE64027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034F-8D4B-4583-AE4B-4F68287B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2FDC-26E6-48F0-AA02-E79EB146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B82-D413-4A7D-808D-FB15B3F6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54D-3623-40A8-929B-E79B8578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744-45DC-4FE3-8040-93B8CBA5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4D5-FDAD-400C-8A07-4ED6BA9B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BCC-9EBB-4339-9922-0633E6EB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552-8093-4E28-B102-6ED20BB6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FBD-DE8C-468E-87D6-CE5E3D0C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700C-E568-4C5F-9890-9974BFA30304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307F-0AF5-4199-BC23-1E37D70AFE69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10080" y="6019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1981080"/>
            <a:ext cx="7467480" cy="4572000"/>
            <a:chOff x="1447920" y="1981080"/>
            <a:chExt cx="7467480" cy="4572000"/>
          </a:xfrm>
        </p:grpSpPr>
        <p:sp>
          <p:nvSpPr>
            <p:cNvPr id="85" name=""/>
            <p:cNvSpPr txBox="1"/>
            <p:nvPr/>
          </p:nvSpPr>
          <p:spPr>
            <a:xfrm>
              <a:off x="1447920" y="1981080"/>
              <a:ext cx="62481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营养要均衡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562720" y="6248520"/>
              <a:ext cx="33526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469880"/>
            <a:ext cx="48006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838600" cy="2377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4320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是小小营养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00040" cy="112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3733920"/>
            <a:ext cx="516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小组合作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利用今天所学的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知识配制一份营养午餐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8108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讨论一下你的食物营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搭配原则是什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4100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876920" y="4495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新宋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81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膳食营养搭配原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每天都吃适当的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运动量比较大，需要多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类食物，补充足够的能量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手指间有一些 脱皮，需要多吃富含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的食物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21337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你学会了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898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我们从食物中获取各种营养，这些营养必须合理搭配，才能保证我们正常生活和成长，这就是营养的均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2767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67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680" y="22860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营养均衡吗？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13260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20" y="990720"/>
            <a:ext cx="91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均衡膳食宝塔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152388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137160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267080" y="2514600"/>
            <a:ext cx="129564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43400" y="4191120"/>
            <a:ext cx="122868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48320" y="5638680"/>
            <a:ext cx="904680" cy="4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38088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“ </a:t>
            </a: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宝塔” 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哪类食物能支持我们的生长发育？</a:t>
            </a:r>
            <a:r>
              <a:rPr b="1" lang="zh-CN" sz="3200" spc="-1" strike="noStrike">
                <a:solidFill>
                  <a:srgbClr val="cc00cc"/>
                </a:solidFill>
                <a:latin typeface="幼圆"/>
                <a:ea typeface="幼圆"/>
              </a:rPr>
              <a:t>哪类食物能给我们提供能量？</a:t>
            </a:r>
            <a:r>
              <a:rPr b="1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哪类食物能使我们保持健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4876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宝塔”中不同种类食物食用量的多少， 又告诉了我们什么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479760"/>
            <a:ext cx="365760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38862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42000" y="2743200"/>
            <a:ext cx="340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27432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0" y="1752480"/>
            <a:ext cx="41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9520" y="609480"/>
            <a:ext cx="2209680" cy="1981440"/>
          </a:xfrm>
          <a:prstGeom prst="leftArrow">
            <a:avLst>
              <a:gd name="adj1" fmla="val 50000"/>
              <a:gd name="adj2" fmla="val 27880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49756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29360" y="1066680"/>
            <a:ext cx="391464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95480" y="762120"/>
            <a:ext cx="2667240" cy="761760"/>
          </a:xfrm>
          <a:prstGeom prst="leftArrow">
            <a:avLst>
              <a:gd name="adj1" fmla="val 50000"/>
              <a:gd name="adj2" fmla="val 87535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这么多食物中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多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少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种食物最营养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包含人类需要的所有营养吗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能总结一下吗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914400"/>
          <a:ext cx="5254560" cy="67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254560" cy="67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 txBox="1"/>
          <p:nvPr/>
        </p:nvSpPr>
        <p:spPr>
          <a:xfrm>
            <a:off x="228600" y="380880"/>
            <a:ext cx="45720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一位小学生一天的食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3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